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4A46-570D-450E-BEC7-D0FDB773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630-2BCA-49FF-A3D5-CD49994C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D069-AC4D-4466-863D-24F2924D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18D-AF74-4108-815B-EC1B11AF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8F3-C332-47A5-BF77-FF5C091E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FEC5-A64D-4F95-B252-60A9FF40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BD7-4157-49F9-8FBD-8ACF6654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C709-312A-453B-A695-4CE7B1B8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FA4C-5009-422D-A163-C3E1EACB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BA09-E065-465D-86AE-77AC4341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C2B6-E849-4E12-8997-044B9278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FF72-73E1-4CF0-856D-2E08E2C4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6780-510A-45BF-B210-C9B2918CB7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y Cho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ggling school work, athletics, a part-time job, and social life with friends, it’s no wonder teenagers today struggle to live a healthy lifestyle. This presentation give teens some tips on how to eat healthy and live a balanced, stress-free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ck a Lunch with a Pu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nch time in the school cafeteria is most likely a time where eating lunch is not a priority and socializing with your friends is. Here are some easy to eat, healthy lunch ideas to help you finish your school day strong and energiz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gg or tuna salad sandwich on whole wheat br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rkey wrap with lettuce, tomato, and che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lad with lots of colorful veg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gurt with fru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tisfying Supp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a small salad to each of the delicious ideas below and you will be able to finish your night strong and energiz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r fry vegetables with shrimp or chic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icken fajitas with guacamole and sal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iled salmon or chicken with vege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ked potato with vegetable chili topp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mart Snacking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healthy snacking a part of your everyday routine with the following healthy snack id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 wheat pretz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ce cakes with peanut bu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fat yogurt with fresh fru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sh cut veg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il m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9T14:38:38Z</dcterms:created>
  <dc:creator>Phil Schneider</dc:creator>
  <dc:description/>
  <dc:language>en-US</dc:language>
  <cp:lastModifiedBy>Phil Schneider</cp:lastModifiedBy>
  <dcterms:modified xsi:type="dcterms:W3CDTF">2013-05-14T09:09:13Z</dcterms:modified>
  <cp:revision>6</cp:revision>
  <dc:subject/>
  <dc:title>Slide 1</dc:title>
</cp:coreProperties>
</file>